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105156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4DCC-27DA-4263-964D-8923E74CA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A5E9-49AC-442B-9308-88E521ADC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35E1-D12A-42D5-9AD6-EB29A62A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373B-234E-4D0C-8BD2-1C546F36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542-83B4-4560-B9D9-F4F4CC94E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ACB1-14F6-4F9D-886E-21649419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4FB9-E57B-40BD-87CB-FCFD0FBF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FEF3-E3E6-4A1D-8EA0-2BF55B4CE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6FF0-B2E8-474C-9E44-08E78FCDA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2DF3-9A87-493E-A3E3-B9896B0E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13C0-A15F-4C26-A1D6-DB648463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CA0D-F74E-4774-9689-CFFC21C58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C20A-7A56-4F05-A1FE-C46DECF07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9095-0C7C-4724-8D7D-5253F631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16C-8118-4AF4-9024-E430C295A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5F12-6181-4B97-95AC-E6907C87C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5BF3-BC98-4D41-B4C2-59675D096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9FCA-DFFF-4DFB-A7E7-EDA7829D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AAF8-E5A6-478E-960C-58BD2F1AF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964D-E4E3-4183-A3FA-B56B2B02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3461-51E5-4BBE-8DB5-BA947C202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16F8-C3F0-4BAD-9494-E3A18D06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4231-269F-48A3-AAE3-758A08BC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D43-105A-4C90-B096-5CF02C56D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541E-660D-4042-902A-07999D59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8D05-7F69-4CBE-AA0D-B3A4620A1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9ED7-4933-4290-AA58-6A1148E29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706B-9AA7-4EC1-8F47-5AF990E1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C52-0501-4A3F-B3C6-E715D7F63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00A8-97EC-4A58-87C9-3B56CAEB2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57B2-883E-4CCC-B6F7-B813623E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2711-7EE1-4F2C-AFB5-C189090EA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F04D-AB6E-4427-A8A6-CB5EB81B5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871B-5B79-4D6F-8934-9CF4E7741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18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owth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production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species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timulus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response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ostasis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daptation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cience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eory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eer_review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bservation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ypothesis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eriment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erimental_group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control_group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independent_variable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tmp/home/.config/libreoffice/4/user/gallery/dependent_variable.wav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iology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ata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etric_system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rganization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rows and Develo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85880" y="2023920"/>
            <a:ext cx="8151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Grow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esults in the addition * and, in many organisms, the formation of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940960" y="30988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Reprodu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914400" y="3733920"/>
            <a:ext cx="8591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group of organisms that can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914400" y="2133720"/>
            <a:ext cx="85914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production is not essential for the survival of an individual, but it is essential for the continuation of the spec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4479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49640" y="482616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90560" y="1309680"/>
            <a:ext cx="4238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sponds to Stimul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82640" y="2021040"/>
            <a:ext cx="88948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ything that is part of the internal or external environments and * is called 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timu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762120" y="3809880"/>
            <a:ext cx="7923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*is 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respo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9888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9720" y="392436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quires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795240" y="2021040"/>
            <a:ext cx="81518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things get their energy from foo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795240" y="2728800"/>
            <a:ext cx="85345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st plants and some unicellular organisms use light energy from the Sun to make their own food and fuel their activit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795240" y="4408560"/>
            <a:ext cx="85345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ms that cannot make their own food get energy by consuming other organism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intains Homeosta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95240" y="2021040"/>
            <a:ext cx="8882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homeost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795240" y="3708360"/>
            <a:ext cx="81504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ything happens within or to an organism that affects its normal state, processes to restore the normal state beg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46520" y="30988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aptations Evolve Over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804960" y="2021040"/>
            <a:ext cx="91011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adap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y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838080" y="4038480"/>
            <a:ext cx="91011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aptations enable organisms to survive and pass on their genes to the next gene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0862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is scie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790560" y="2030400"/>
            <a:ext cx="88106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body of knowledge based on the study of na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790560" y="322416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, or essential characteristics, of science is scientific inquir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90560" y="4424400"/>
            <a:ext cx="90392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inquiry is both a creative process and a process rooted in unbiased observations and experimen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6035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ientific Theory v. Scientific La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90560" y="2023920"/>
            <a:ext cx="86583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790560" y="3700440"/>
            <a:ext cx="88106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ientific la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*, but does not explain why the relationship is the way it 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47120" y="31114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kes observations and draws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762120" y="2438280"/>
            <a:ext cx="86580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choose subjects to study and decide what types of data to colle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790560" y="3700440"/>
            <a:ext cx="88106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nalyze the data collected to draw conclus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ands Knowled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790560" y="2027160"/>
            <a:ext cx="8810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cientific fields are guided by research that results in a constant reevaluation of what is know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90560" y="3710160"/>
            <a:ext cx="88106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sciences imitate science, but do not provide science-based explan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The Study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271600" y="2452680"/>
            <a:ext cx="73980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2278080" y="3103560"/>
            <a:ext cx="73994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273400" y="3730680"/>
            <a:ext cx="7397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3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785880" y="1309680"/>
            <a:ext cx="889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hallenges Accepted The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790560" y="2023920"/>
            <a:ext cx="7972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welcome debate about one another’s idea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90560" y="3214800"/>
            <a:ext cx="7972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s advance by accommodating new information as it is discover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785880" y="1309680"/>
            <a:ext cx="889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estions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790560" y="1925640"/>
            <a:ext cx="83534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or data that are not consistent with current scientific understanding are of interest to scienti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ch 1 im 15"/>
          <p:cNvPicPr/>
          <p:nvPr/>
        </p:nvPicPr>
        <p:blipFill>
          <a:blip r:embed="rId1"/>
          <a:stretch/>
        </p:blipFill>
        <p:spPr>
          <a:xfrm>
            <a:off x="730080" y="4273560"/>
            <a:ext cx="9053640" cy="22604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9"/>
          <p:cNvSpPr/>
          <p:nvPr/>
        </p:nvSpPr>
        <p:spPr>
          <a:xfrm>
            <a:off x="790560" y="3460680"/>
            <a:ext cx="87343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consistencies often lead to further investig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785880" y="1309680"/>
            <a:ext cx="7977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sts Cla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90560" y="2009880"/>
            <a:ext cx="90392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-based information makes claims based on a large amount of data and observations obtained from unbiased investigations and carefully controlled experimen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90560" y="4654440"/>
            <a:ext cx="86583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are reached from the eviden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85880" y="1309680"/>
            <a:ext cx="7977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dergoes Peer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790560" y="2009880"/>
            <a:ext cx="865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it is made public, science-based information is reviewed by scientists’ pe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790560" y="3195720"/>
            <a:ext cx="8810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Peer re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rocess by which the procedures used during an experiment and the results are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52578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ience in Everyday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790560" y="2004840"/>
            <a:ext cx="888696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is scientifically literate combines a basic understanding of science and its processes with reasoning and thinking skil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790560" y="3681360"/>
            <a:ext cx="865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issues must be addressed by society based on the values it holds impor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k a 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777960" y="2021040"/>
            <a:ext cx="82278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cientific inquiry begins with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777960" y="2735280"/>
            <a:ext cx="82278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cientific inquiry involves asking questions and processing information from a variety of reliable sour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9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50160" y="2133720"/>
            <a:ext cx="4114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rm a Hypoth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790560" y="2021040"/>
            <a:ext cx="82281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790560" y="3203640"/>
            <a:ext cx="822816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a hypothesis is supported by data from additional investigations, usually it is considered valid and is accepted by the scientific commun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llect th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77960" y="2021040"/>
            <a:ext cx="82278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a biologist conducts an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experi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0680" y="30988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rolled Experi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785880" y="202392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control 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85880" y="322884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experimental 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82284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68880" y="26161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erimental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785880" y="20098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Independent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785880" y="32050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ependent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2" descr="Vlab_100"/>
          <p:cNvPicPr/>
          <p:nvPr/>
        </p:nvPicPr>
        <p:blipFill>
          <a:blip r:embed="rId1"/>
          <a:stretch/>
        </p:blipFill>
        <p:spPr>
          <a:xfrm>
            <a:off x="2438280" y="4952880"/>
            <a:ext cx="5257800" cy="150048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9"/>
          <p:cNvSpPr/>
          <p:nvPr/>
        </p:nvSpPr>
        <p:spPr>
          <a:xfrm>
            <a:off x="4800600" y="5118120"/>
            <a:ext cx="26668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Dependent and Independent Variab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20320" y="26035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6" descr="AUDIO cop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34520" y="37720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Biology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—the science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790560" y="2021040"/>
            <a:ext cx="84297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origins and history of life and once-living th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790560" y="32097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structures of living th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790560" y="392580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how living things interact with one an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790560" y="51195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how living things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0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13360" y="142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ata Gath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785880" y="2023920"/>
            <a:ext cx="88153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785880" y="2733840"/>
            <a:ext cx="89676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data can be measurements of time, temperature, length, mass, area, volume, density, or other fac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785880" y="4413240"/>
            <a:ext cx="8967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data are descriptions of what our senses dete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448920" y="21337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785880" y="1309680"/>
            <a:ext cx="7977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ric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762120" y="3657600"/>
            <a:ext cx="82818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units (International System of Units) are commonly used in science for consistency and ease of communic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62120" y="2286000"/>
            <a:ext cx="82818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metr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s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3360" y="28702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alyze th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781200" y="2021040"/>
            <a:ext cx="417168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graph of the data makes the pattern easier to gras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81200" y="3705120"/>
            <a:ext cx="394308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en when a hypothesis has not been supported, it is valu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ch 1 im 27"/>
          <p:cNvPicPr/>
          <p:nvPr/>
        </p:nvPicPr>
        <p:blipFill>
          <a:blip r:embed="rId1"/>
          <a:stretch/>
        </p:blipFill>
        <p:spPr>
          <a:xfrm>
            <a:off x="5005440" y="2057400"/>
            <a:ext cx="4952880" cy="3151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6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port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790560" y="2022480"/>
            <a:ext cx="8810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reviewers agree on the merit of the paper, then the paper is published for review by the public and use by other scienti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0"/>
          <p:cNvSpPr/>
          <p:nvPr/>
        </p:nvSpPr>
        <p:spPr>
          <a:xfrm>
            <a:off x="6629400" y="6753240"/>
            <a:ext cx="531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do biologists d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90560" y="202104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diversity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90560" y="27338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dise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790560" y="343368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echn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790560" y="414972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gricul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790560" y="48657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e the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Characteristics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90560" y="1835280"/>
            <a:ext cx="84297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Characteristics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90560" y="1835280"/>
            <a:ext cx="84297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 startAt="5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 startAt="5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 startAt="5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 startAt="5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conceptsinmotion"/>
          <p:cNvPicPr/>
          <p:nvPr/>
        </p:nvPicPr>
        <p:blipFill>
          <a:blip r:embed="rId1"/>
          <a:stretch/>
        </p:blipFill>
        <p:spPr>
          <a:xfrm>
            <a:off x="7518240" y="522360"/>
            <a:ext cx="2426040" cy="380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4"/>
          <p:cNvSpPr/>
          <p:nvPr/>
        </p:nvSpPr>
        <p:spPr>
          <a:xfrm>
            <a:off x="1752480" y="3429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Table 1.1 Characteristics of Living Organ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7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762120" y="22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 are made of one or more cel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762120" y="2971800"/>
            <a:ext cx="84294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basic unit of structure and function in all living thing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762120" y="137160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de of one or mor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781200" y="3214800"/>
            <a:ext cx="83502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zed cells are organized into groups that work together called tissu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plays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781200" y="2023920"/>
            <a:ext cx="8743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things also display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org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means they are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781200" y="440532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ssues are organized into orga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781200" y="5095800"/>
            <a:ext cx="82278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systems work together to support an organis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90080" y="26161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3-08-25T18:45:41Z</dcterms:modified>
  <cp:revision>571</cp:revision>
  <dc:subject/>
  <dc:title>Glencoe Biology</dc:title>
</cp:coreProperties>
</file>